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11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83F-337D-4A8F-841F-79C5FF91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766-A5D8-4C48-BA65-D4D1FFD8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E29-C96E-442D-B474-8F706318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DAF-5422-470E-A95B-F292CC5F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290-EE14-44E3-B480-711D91C3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2B3-E0F8-4A27-AFE6-2F7E1657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4B6-1DFC-4EB4-B06F-33CD13CD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B5A-775B-472B-AF77-4A5F3537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37E-4EC7-4DD9-B5AE-DAA7BBFC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3BA-22D8-4237-8AE4-F91A7B37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945-25AA-40F9-90BB-0ADFED0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E72-E851-4859-AE90-FC3D1F7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50D4-FA9F-4AEA-935B-5C8515D27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cc"/>
                </a:solidFill>
                <a:latin typeface="Goudy Old Style"/>
              </a:rPr>
              <a:t>Les Flam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Goudy Old Style"/>
              </a:rPr>
              <a:t>Une journ</a:t>
            </a:r>
            <a:r>
              <a:rPr b="0" lang="en-US" sz="5400" spc="-1" strike="noStrike">
                <a:solidFill>
                  <a:srgbClr val="ff33cc"/>
                </a:solidFill>
                <a:latin typeface="Goudy Old Style"/>
                <a:ea typeface="Arial"/>
              </a:rPr>
              <a:t>ée dans la vie d’un flam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2666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5400000">
            <a:off x="280080" y="176760"/>
            <a:ext cx="1577880" cy="168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6200000">
            <a:off x="7290360" y="4977000"/>
            <a:ext cx="15778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76360" y="190512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ls se peaufin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Ils se lavent comme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rial"/>
              </a:rPr>
              <a:t>ç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6534000" cy="3659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4920" y="341280"/>
            <a:ext cx="7684920" cy="651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 rot="10800000">
            <a:off x="1088640" y="228240"/>
            <a:ext cx="8055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94920" y="3962520"/>
            <a:ext cx="67057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ls se couchent avec une jambe dans l’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Ils s’endorment debout, sauf s’ils se situent sur le 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œud.  Tous les deux de parents s’assoient sur le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œud d’ œuf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791320" cy="3254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17360" y="0"/>
            <a:ext cx="2845080" cy="6705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 rot="10800000">
            <a:off x="5257440" y="304560"/>
            <a:ext cx="3886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19320" y="2362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Ils se trouvent dans les habitats tropicaux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105160" cy="33973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62480" cy="4925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 rot="10800000">
            <a:off x="3881520" y="2922480"/>
            <a:ext cx="52624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440" y="22860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Goudy Old Style"/>
              </a:rPr>
              <a:t>Les flamants se r</a:t>
            </a:r>
            <a:r>
              <a:rPr b="0" lang="en-US" sz="4000" spc="-1" strike="noStrike">
                <a:solidFill>
                  <a:srgbClr val="ff33cc"/>
                </a:solidFill>
                <a:latin typeface="Goudy Old Style"/>
                <a:ea typeface="Arial"/>
              </a:rPr>
              <a:t>éveillent le mat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-360" y="4724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 flamants prennent un bain. Ils baignent leurs jeunes flam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343400" cy="3556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25780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 rot="10800000">
            <a:off x="2333520" y="681120"/>
            <a:ext cx="681048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76520" y="434304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ur se baigner,les flamants se lavent dans un bain de bo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15000" cy="3733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 rot="10800000">
            <a:off x="1914480" y="0"/>
            <a:ext cx="7229520" cy="6353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2209680"/>
            <a:ext cx="501948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47920" y="3962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Plus tard ils mangent des plantes, de l’agae bleu-vert, et des crevet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181480" cy="348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15000" y="2971800"/>
            <a:ext cx="1143000" cy="84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 rot="284400">
            <a:off x="228600" y="228600"/>
            <a:ext cx="2755800" cy="5715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 flipH="1" rot="5400000">
            <a:off x="4578840" y="2040120"/>
            <a:ext cx="203364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41911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ff"/>
                </a:solidFill>
                <a:latin typeface="Arial"/>
              </a:rPr>
              <a:t>Apr</a:t>
            </a:r>
            <a:r>
              <a:rPr b="1" lang="en-US" sz="2400" spc="-1" strike="noStrike">
                <a:solidFill>
                  <a:srgbClr val="9900ff"/>
                </a:solidFill>
                <a:latin typeface="Arial"/>
                <a:ea typeface="Arial"/>
              </a:rPr>
              <a:t>ès qu’ils ont pris leur petit-déjeuner, ils donnent à manger aux pet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343400" cy="282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5715000" cy="4495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10800000">
            <a:off x="228240" y="0"/>
            <a:ext cx="47242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9625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Apr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Arial"/>
              </a:rPr>
              <a:t>ès l’âge de deux ans, les flamants tournent rose à cause de la couleur des crevet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89560" y="2746440"/>
            <a:ext cx="4654440" cy="4111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 rot="10800000">
            <a:off x="0" y="-360"/>
            <a:ext cx="46483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952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ls prennent plusieurs pas pour decoll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Dans un grand flocon, ils vo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15:53Z</dcterms:created>
  <dc:creator>edill</dc:creator>
  <dc:description/>
  <dc:language>en-US</dc:language>
  <cp:lastModifiedBy>edill</cp:lastModifiedBy>
  <dcterms:modified xsi:type="dcterms:W3CDTF">2012-03-09T18:19:50Z</dcterms:modified>
  <cp:revision>5</cp:revision>
  <dc:subject/>
  <dc:title>Les Flamenco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